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766-D72C-4A86-A196-93011C29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747-D04D-4115-80A6-05304534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790-89EF-499B-BE0B-3048A092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9E0-2F4C-4BF9-AA1F-F9837D0F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ACD2-84AC-4D4F-BF8C-9B80131B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E181-D520-4555-BBB3-F55A4754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CAAA-1F66-4BD2-8C72-34CE0E33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A713-F159-4051-B27C-67AD815E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9CF0-7168-4DA0-82BD-846D533A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AB8D-3617-47A6-B652-6A79C8B0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1FD6-DBFD-4B94-A47C-B9531DE4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2C4-2537-4204-A4EB-3EA9CBD2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F6AD-287A-49C5-8923-D89E2F63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002E-4709-4205-A080-51C4BD27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BF4C-180A-40BC-BCE2-DB32289B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B0F2-15E9-4B6D-9F9A-4515AE3D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4584-32A1-4B34-874A-8D21CDAB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F60AC-8187-49E3-92B6-F304A356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C14C-AB16-4089-9AF5-C0EFD82A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8CEC-31EC-481B-872A-41421D3F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270C-CBEC-4D8D-AA6C-B557A557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B7AF-B34F-4C93-9629-F6F919A0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F5C-6C21-49BE-8CDF-E30BCE27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8517-9F46-422B-985C-E43125A3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D385-7AE6-4099-AB58-FD30C038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C6BD0-9DDF-4DCC-B178-182B94E1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295A-146F-43F5-9D78-A28EACD3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63066-32F9-4541-A6E2-B26B4C9B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65505-AB49-4E16-A989-7D77CF0E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F5E0-0242-497B-B06D-E3CB9AAB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D7080-63BA-4A2A-BF7E-ACBE9A5A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B9A11-9517-483B-8C48-13C23653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A4A6F-0A81-4361-A7FD-129F49AF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A46-7BF4-42B8-A51B-A856FB55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2222-A589-415D-806C-0E36ADFD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46BE-81D8-49ED-ADAE-FE8EF5F4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67894-9F28-46DA-A509-273676BE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1236-8210-4EF3-9AF4-791D010D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2272C-8905-42B4-8DEA-53DBC5F5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DA0B-93FC-452A-AE25-51DB4E85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4E2D7-FC19-4F25-A26D-BF208720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F00F-FAB2-42DF-B5D0-5C2F994F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CBB1-60F4-45ED-BD12-B704DE7A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7C1-68BF-46CA-81E4-37F42A5B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772-C020-4526-B075-56BA4273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BD6-C814-4726-8DAE-D4684D78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5DE-3F36-49E9-9404-5C32957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B1F-B9EE-44B5-8B17-DB16A5C6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781F-A09E-4C30-B5D0-FE4C2AE852F2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2234-D5A0-42D2-B6A1-E9A8E9FAAA53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7931-29C7-4ACD-BD94-9852B56E9C0B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BDA7-1636-4364-B1FA-73C4583047F4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ffff"/>
                </a:solidFill>
                <a:uFillTx/>
                <a:latin typeface="Constantia"/>
              </a:rPr>
              <a:t>In the article “Spreadsheet Issues: Pitfalls, Best Practices and Practical Tips” Campbell sites a number of problems caused by spreadsheet error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crosoft Exc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Excel is one of the most widely used programs in the office suite; however, very few people are professionally trained to use it.  Therefore the danger for human errors is high.  For example, in 2003 a Canadian power company took a 24-million-dollar loss when a cut-and-paste error led to a mispriced bid.  As of 2007 there has been 89 news stories dating back to 1995 of substantial spreadsheet error.  Ray Panko had found in an audit research that 97% of spreadsheets reviewed had erro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4617b"/>
                </a:solidFill>
                <a:latin typeface="Calibri"/>
              </a:rPr>
              <a:t>What are the sources of these kinds of errors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nstantia"/>
              </a:rPr>
              <a:t>Human Err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Omission:  Unfamiliar users omit important details to formulas causing major mal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ypo’s: Using a semi-colon instead of a colon will cause and err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Logic errors:  Choos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nstantia"/>
              </a:rPr>
              <a:t>Unlikely to discover erro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It’s hard to find errors before using the spreadsheet as you are not sure what you are looking f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sers are not sure how to properly use the softw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500" spc="-1" strike="noStrike">
                <a:solidFill>
                  <a:srgbClr val="04617b"/>
                </a:solidFill>
                <a:latin typeface="Calibri"/>
              </a:rPr>
              <a:t>What are the sources of these kinds of errors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nstantia"/>
              </a:rPr>
              <a:t>Unfriendly interfa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sers not sure how to use what has been cre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Creators not understanding that users may have different nee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nstantia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nsure of what commands to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Misuse of comma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4617b"/>
                </a:solidFill>
                <a:latin typeface="Calibri"/>
              </a:rPr>
              <a:t>How can teachers help students avoid them in spreadsheets they creat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nstantia"/>
              </a:rPr>
              <a:t>Three main ideas reduce error rates and improve error detec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hink before you create: Planning ahead will help to detect errors before you create th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Expect errors as you work:  Make error checking a part of your rout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ork in groups:  Having others be a part of your work and editing regular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nstantia"/>
              </a:rPr>
              <a:t>Teaching students when spreadsheets are appropriate to us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4617b"/>
                </a:solidFill>
                <a:latin typeface="Calibri"/>
              </a:rPr>
              <a:t>How can teachers help students avoid them in spreadsheets they creat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Creating a good interface design – Think iP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Visual Structure: well defined areas and func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Uniformity of Style: Its needs to look like what has been seen befo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Readability; Large clear font and color choices, lots of space and familiar icon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Hide what isn’t need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Sensible defaul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Printable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Provide presentation ready pa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You can use excel to create and present using another form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22:39:30Z</dcterms:created>
  <dc:creator>ladmin</dc:creator>
  <dc:description/>
  <dc:language>en-US</dc:language>
  <cp:lastModifiedBy>Mike</cp:lastModifiedBy>
  <dcterms:modified xsi:type="dcterms:W3CDTF">2012-07-10T01:42:27Z</dcterms:modified>
  <cp:revision>2</cp:revision>
  <dc:subject/>
  <dc:title>Chapter 4, Question 2</dc:title>
</cp:coreProperties>
</file>